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AC58AD-CB70-4A9E-BE04-DDC7351BB7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106640" y="811080"/>
            <a:ext cx="5344920" cy="401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5DAD-FE8A-4F56-BA44-BC67EC804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7078-266C-4E23-AC8C-692E1AC8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F6B5-3B41-4D6E-B1E5-693663B7B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17F2-FE5C-4EBC-9B80-C948ABA05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70F3-6BB5-46B1-8FE6-69BC2A64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9D59-E601-429F-994B-92F28F05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C65B-9E96-4ED8-A277-603DFB7D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AE1E-210C-4E0D-9F33-58C96B56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CD01-C991-440F-84CF-0A8FEF7B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D97F-3982-499A-897B-92AA08B6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EDA2-FA98-4F55-8950-4C591615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5BF5-78B3-42A9-A2E9-69488811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7BDC947-7506-4927-9E50-BA8C7CC137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2786400" y="2065320"/>
            <a:ext cx="45806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4160"/>
                <a:tab algn="l" pos="6288120"/>
                <a:tab algn="l" pos="6737400"/>
                <a:tab algn="l" pos="7184880"/>
                <a:tab algn="l" pos="7629480"/>
                <a:tab algn="l" pos="808524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You Are Hol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468360" y="2052720"/>
            <a:ext cx="9067680" cy="34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You are holy (You are ho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You are mighty (You are migh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You are worthy (You are worth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orthy of praise (Worthy of prai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follow (I will follow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listen (I will liste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love you (I will love Yo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ll of my days (All of my day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"/>
          <p:cNvSpPr/>
          <p:nvPr/>
        </p:nvSpPr>
        <p:spPr>
          <a:xfrm>
            <a:off x="0" y="182520"/>
            <a:ext cx="496404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(Me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 will sing to and wor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King who is worth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 will love and adore Hi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nd I will bow down before Hi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nd I will sing to and worship The King who is worth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nd I will love and adore hi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nd I will bow down before Hi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5040360" y="168120"/>
            <a:ext cx="5040360" cy="61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(Wome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 are Lord of Lo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 are King of K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 are mighty G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ord of everyt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're Emmanu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're the great "I AM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're my Prince of Pe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Who is the Lam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're the living G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're my saving gr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 will reign fore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 are ancient of da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're the Alpha, Omeg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Beginning and 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're my Savior, Messiah, Redeemer, and fri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392040" y="6573960"/>
            <a:ext cx="929664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(All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You're my Prince of Peace and I will live my life for you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468360" y="2052720"/>
            <a:ext cx="9067680" cy="34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You are holy (You are ho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You are mighty (You are migh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You are worthy (You are worth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orthy of praise (Worthy of prai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follow (I will follow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listen (I will liste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love you (I will love Yo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ll of my days (All of my day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182520"/>
            <a:ext cx="496404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(Me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 will sing to and wor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King who is worth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 will love and adore Hi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nd I will bow down before Hi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nd I will sing to and worship The King who is worth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nd I will love and adore hi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nd I will bow down before Hi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4871880" y="168120"/>
            <a:ext cx="5376960" cy="61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(Wome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 are Lord of Lo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 are King of K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 are mighty G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ord of everyt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're Emmanu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're the great "I AM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're my Prince of Pe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Who is the Lam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're the living G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're my saving gr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 will reign fore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 are ancient of da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're the Alpha, Omeg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Beginning and 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're my Savior, Messiah, Redeemer, and fri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392040" y="6573960"/>
            <a:ext cx="929664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(All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You're my Prince of Peace and I will live my life for you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ter</dc:creator>
  <dc:description/>
  <dc:language>en-US</dc:language>
  <cp:lastModifiedBy>Peter</cp:lastModifiedBy>
  <dcterms:modified xsi:type="dcterms:W3CDTF">2010-05-16T04:59:11Z</dcterms:modified>
  <cp:revision>37</cp:revision>
  <dc:subject/>
  <dc:title>Slide 1</dc:title>
</cp:coreProperties>
</file>